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53F-A949-472B-9D8B-6C922B6F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79D-00E3-48D4-9AB4-B9102DB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EED-05B2-42BE-B960-9A001AB2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424-1314-4762-9959-44668DD7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806-31CF-4D2F-A13B-4FB9635E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3B9-70D1-4B49-B712-E763E09F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0F7-8646-4012-ABD2-C3530D1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137-8FA3-4B75-B192-957F7570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9DE-9753-4933-B9BC-0C1976D7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8D1-BFD0-4CCD-8CA6-36B0B0A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D14-5D6E-4C76-B578-E8C13ED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2C9-02F4-487F-8F2D-0E04ED8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4BA8-EDEA-45E8-AD9A-470F32F0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irMdITC TT-Medium"/>
              </a:rPr>
              <a:t>Run…..Run……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ways wanted to know why taller people run faster than shorte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the taller person will run faster than the shorter people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m run 2 with a distance 40 yards, time them.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 practic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4255920" cy="26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4255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4876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right and wrong it was the average height that was the fas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50000">
              <a:srgbClr val="ff8000"/>
            </a:gs>
            <a:gs pos="100000">
              <a:srgbClr val="0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86000">
            <a:off x="685440" y="39434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0287200">
            <a:off x="5105520" y="3962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264800">
            <a:off x="5562720" y="83772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9867200">
            <a:off x="533160" y="83772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8:44Z</dcterms:created>
  <dc:creator>Sterling JrHi</dc:creator>
  <dc:description/>
  <dc:language>en-US</dc:language>
  <cp:lastModifiedBy>USD376</cp:lastModifiedBy>
  <dcterms:modified xsi:type="dcterms:W3CDTF">2010-02-11T16:44:43Z</dcterms:modified>
  <cp:revision>3</cp:revision>
  <dc:subject/>
  <dc:title>Run…..Run……RUN</dc:title>
</cp:coreProperties>
</file>